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BA3-3448-4AA7-B80E-FBC13820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2BA-D5F6-41B5-9D17-91A14969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B72-796A-438C-9793-79917418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B01-90B2-4B68-A3D0-7AA4E06F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748-0C51-4639-904F-E3B8AE5F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061-5623-4846-81A2-E3480F9D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FA9C-4943-40D5-9146-F9575D5D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A5B0-1DF2-4694-A721-644EC4D0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406E-4118-4169-9B80-84160CD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B542-A7C1-41D0-8B6E-B11DEA32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6929-B85F-4A86-9AE1-A26B7D1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21E-5BA6-4CF5-A25C-1E942CBC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30C9-6CDB-4C3B-9708-EA1A3339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7693-3C65-4ACE-B56D-EF2CDA1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2567-11BB-4C65-84C0-9BB62917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A48C-5337-4326-8C6F-6B703C05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B854-C83D-4487-B59B-E1FC2E93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830-2AC2-45C7-A1E8-F5C46CC1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EC2-A683-49A4-BB2F-94EAC75A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B94-CE0A-41C1-8498-3CAD5140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F84-6108-4D3C-ADC2-BC6E50E7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006-27BC-4A4E-ABE3-B15D54F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466-6FE6-454A-AE24-BB3964F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244-061F-457F-A9F5-D05BCC7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0E94-26DE-4CA9-8405-53CB48677D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8806-4E63-420E-8D6C-B8C78110DB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odzaje ruchó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jednostaj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tor ruchu jest linią prostą, prędkość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droga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jednostajnie przyspieszo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or ruchu jest linią prostą, przyspieszenie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artość prędkości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roga jest wprost proporcjonalna do kwadratu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04776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6858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600120" cy="5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46748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irc_mi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1160640" cy="99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600200" y="33526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95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dstawowe jednostki wielkości fizyczny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Droga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za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Prędkość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1m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000" spc="-1" strike="noStrike">
                <a:solidFill>
                  <a:srgbClr val="703dff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zyspieszenie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 m/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7:55:17Z</dcterms:created>
  <dc:creator>admin</dc:creator>
  <dc:description/>
  <dc:language>en-US</dc:language>
  <cp:lastModifiedBy>Badyl</cp:lastModifiedBy>
  <dcterms:modified xsi:type="dcterms:W3CDTF">2013-03-28T15:29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